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1E5-DC9B-4D8F-AEEC-E25EDBFA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88E-5CB5-41E5-9E47-58318BDB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58F-8142-4FA0-A594-080E78A7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6BA-C4A6-45DD-B7C5-C60F163E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418-4A6B-4852-8CFE-5A5A6C1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639-A7AB-4B57-8AD0-693E965F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326-BC8E-4065-B26A-485F4C6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7AA-213E-4205-8DBB-BBEE7948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3E4-7129-4095-917A-09546728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C93-A3BF-4DDB-B33E-52014FB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5CE-7144-4931-BC6D-7F7A38A3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B7A-3024-4AE4-B72E-00AB1C2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772B-FC70-43E8-B478-AB7F6BCEF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paring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by #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umbers"/>
          <p:cNvPicPr/>
          <p:nvPr/>
        </p:nvPicPr>
        <p:blipFill>
          <a:blip r:embed="rId1"/>
          <a:stretch/>
        </p:blipFill>
        <p:spPr>
          <a:xfrm>
            <a:off x="1600200" y="1673280"/>
            <a:ext cx="62485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7858080" cy="610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30492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AL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Compon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66ff66"/>
                </a:solidFill>
                <a:latin typeface="Arial"/>
              </a:rPr>
              <a:t>24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0" lang="en-US" sz="16600" spc="-1" strike="noStrike">
                <a:solidFill>
                  <a:srgbClr val="00ccff"/>
                </a:solidFill>
                <a:latin typeface="Arial"/>
              </a:rPr>
              <a:t>192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505320" y="6094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G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ore than a</a:t>
            </a:r>
            <a:br>
              <a:rPr sz="8000"/>
            </a:b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66ff66"/>
                </a:solidFill>
                <a:latin typeface="Arial"/>
              </a:rPr>
              <a:t>GLE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66ff66"/>
                </a:solidFill>
                <a:latin typeface="Arial"/>
              </a:rPr>
              <a:t>a day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138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138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8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ade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My question:</a:t>
            </a: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e bring elementary teachers on board without  creating the feeling we are adding something to a plate alread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verflowing with standards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3800" spc="-1" strike="noStrike">
                <a:solidFill>
                  <a:srgbClr val="66ff66"/>
                </a:solidFill>
                <a:latin typeface="Arial"/>
              </a:rPr>
              <a:t>u</a:t>
            </a:r>
            <a:r>
              <a:rPr b="0" lang="en-US" sz="13800" spc="-1" strike="noStrike">
                <a:solidFill>
                  <a:srgbClr val="00ccff"/>
                </a:solidFill>
                <a:latin typeface="Arial"/>
              </a:rPr>
              <a:t>m</a:t>
            </a:r>
            <a:r>
              <a:rPr b="0" lang="en-US" sz="13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n-US" sz="13800" spc="-1" strike="noStrike">
                <a:solidFill>
                  <a:srgbClr val="66ff66"/>
                </a:solidFill>
                <a:latin typeface="Arial"/>
              </a:rPr>
              <a:t>e</a:t>
            </a:r>
            <a:r>
              <a:rPr b="0" lang="en-US" sz="13800" spc="-1" strike="noStrike">
                <a:solidFill>
                  <a:srgbClr val="00ccff"/>
                </a:solidFill>
                <a:latin typeface="Arial"/>
              </a:rPr>
              <a:t>r</a:t>
            </a:r>
            <a:r>
              <a:rPr b="0" lang="en-US" sz="13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will I need to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10th Grade Sci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5th Grade Everyth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228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t’s Compa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533520" y="304920"/>
            <a:ext cx="259056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66ff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 Grade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3048120" y="1066680"/>
            <a:ext cx="5257800" cy="5105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495680" y="2362320"/>
            <a:ext cx="266724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EAL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838080" y="59436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28600" y="304920"/>
            <a:ext cx="2286000" cy="254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 Grade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hart 8" descr=""/>
          <p:cNvPicPr/>
          <p:nvPr/>
        </p:nvPicPr>
        <p:blipFill>
          <a:blip r:embed="rId1"/>
          <a:stretch/>
        </p:blipFill>
        <p:spPr>
          <a:xfrm>
            <a:off x="-23760" y="603360"/>
            <a:ext cx="902160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ff66"/>
                </a:solidFill>
                <a:latin typeface="Arial"/>
              </a:rPr>
              <a:t>5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700" spc="-1" strike="noStrike">
                <a:solidFill>
                  <a:srgbClr val="00ccff"/>
                </a:solidFill>
                <a:latin typeface="Arial"/>
              </a:rPr>
              <a:t>27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6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Grad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LR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ake down int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b0f0"/>
                </a:solidFill>
                <a:latin typeface="Arial"/>
              </a:rPr>
              <a:t>Component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GL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4191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hart 7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5800" cy="5419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304920" y="228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LRS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Components </a:t>
            </a: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oks a Little Different in </a:t>
            </a:r>
            <a:r>
              <a:rPr b="0" lang="en-US" sz="8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8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ad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17:28Z</dcterms:created>
  <dc:creator>BSD501</dc:creator>
  <dc:description/>
  <dc:language>en-US</dc:language>
  <cp:lastModifiedBy>bsd501</cp:lastModifiedBy>
  <dcterms:modified xsi:type="dcterms:W3CDTF">2009-01-05T20:22:36Z</dcterms:modified>
  <cp:revision>19</cp:revision>
  <dc:subject/>
  <dc:title>Slide 1</dc:title>
</cp:coreProperties>
</file>